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1D30D-96D1-4356-A992-F35ED99C2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F991-8AD0-4821-858A-FF3F0127E6DD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C3F9-1352-4C0C-B089-7AD6EC22D2D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A881-9F3D-4FD1-A862-63D9674ED35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0C9E-797E-4C48-B2DA-9A456240727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6FA2-FB72-436D-9449-2BA16198BC50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5B63-790E-4C90-A9B2-EE5DFBF3A59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CCCB-0177-4225-8688-471FE9D60CA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432F-D62A-48F2-93E6-0788BF553C3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15F4-3A63-4969-9119-EA7F0872C6B9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7697-A307-487C-89D5-8A243B13E447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7CAB-B6E6-47CF-85D0-84BFF8A85E14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B504-A39F-4C19-9746-3B1BC09197FF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7089-ABA7-4689-9A91-221C58AB0DB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8B20-BF7A-4183-8F44-207FEAA3DAC6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D45B-6AC5-4AF2-9ADE-A9E792855F78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DBB72-D7BB-45EA-8F20-3E45DBE29B4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1B4C-FFDE-417B-ABC6-D2EFA9036C1A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AE6E-0AEB-413C-9D38-7490A4494D3E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CBA8-3128-4217-B17E-9A5C9E3BE982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13336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362120"/>
            <a:ext cx="23551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37124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36212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2133360"/>
            <a:ext cx="356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362120"/>
            <a:ext cx="73152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urriculumcentral.its.hawaii.edu:8080/central/core/cas.js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urriculum Central</a:t>
            </a:r>
            <a:endParaRPr b="0" lang="en-US" sz="36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Kapi‘olani Community College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Microsoft Sans Serif"/>
              </a:rPr>
              <a:t>University of Hawai‘i 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974960"/>
            <a:ext cx="7086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Look at what’s ther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6705360" cy="32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d703b"/>
                </a:solidFill>
                <a:uFillTx/>
                <a:latin typeface="Microsoft Sans Serif"/>
                <a:hlinkClick r:id="rId2"/>
              </a:rPr>
              <a:t>http://curriculumcentral.its.hawaii.edu:8080/central/core/cas.jsp</a:t>
            </a: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Email Aler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8" name="Picture 2" descr="C:\Users\Dik\Downloads\email_message.tiff"/>
          <p:cNvPicPr/>
          <p:nvPr/>
        </p:nvPicPr>
        <p:blipFill>
          <a:blip r:embed="rId2"/>
          <a:stretch/>
        </p:blipFill>
        <p:spPr>
          <a:xfrm>
            <a:off x="2448000" y="2924280"/>
            <a:ext cx="44006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Login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0" name="Picture 2" descr="C:\Users\Dik\Downloads\CC_login.tiff"/>
          <p:cNvPicPr/>
          <p:nvPr/>
        </p:nvPicPr>
        <p:blipFill>
          <a:blip r:embed="rId2"/>
          <a:stretch/>
        </p:blipFill>
        <p:spPr>
          <a:xfrm>
            <a:off x="2014560" y="2352600"/>
            <a:ext cx="52671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Users\Dik\Downloads\CC_UH_login.tiff"/>
          <p:cNvPicPr/>
          <p:nvPr/>
        </p:nvPicPr>
        <p:blipFill>
          <a:blip r:embed="rId3"/>
          <a:stretch/>
        </p:blipFill>
        <p:spPr>
          <a:xfrm>
            <a:off x="1360440" y="2133720"/>
            <a:ext cx="6575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sp>
        <p:nvSpPr>
          <p:cNvPr id="116" name="AutoShape 2"/>
          <p:cNvSpPr/>
          <p:nvPr/>
        </p:nvSpPr>
        <p:spPr>
          <a:xfrm>
            <a:off x="45385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7" name="Picture 3" descr="C:\Users\Dik\Downloads\MyTasks_sample.png"/>
          <p:cNvPicPr/>
          <p:nvPr/>
        </p:nvPicPr>
        <p:blipFill>
          <a:blip r:embed="rId3"/>
          <a:stretch/>
        </p:blipFill>
        <p:spPr>
          <a:xfrm>
            <a:off x="1886040" y="1214280"/>
            <a:ext cx="537192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Dik\Downloads\MyTasks_demo.tiff"/>
          <p:cNvPicPr/>
          <p:nvPr/>
        </p:nvPicPr>
        <p:blipFill>
          <a:blip r:embed="rId3"/>
          <a:stretch/>
        </p:blipFill>
        <p:spPr>
          <a:xfrm>
            <a:off x="581040" y="1738440"/>
            <a:ext cx="798192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720" y="134712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90720" y="2133360"/>
            <a:ext cx="7315200" cy="4267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Users\Dik\Downloads\CC_Review.tiff"/>
          <p:cNvPicPr/>
          <p:nvPr/>
        </p:nvPicPr>
        <p:blipFill>
          <a:blip r:embed="rId3"/>
          <a:stretch/>
        </p:blipFill>
        <p:spPr>
          <a:xfrm>
            <a:off x="785880" y="547560"/>
            <a:ext cx="7572240" cy="57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Be Careful …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Central is not perfec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rustration gets you nowhere fas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Patience is needed and appreciated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ake it one step at a time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eep moving forward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762120"/>
            <a:ext cx="69343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Peer into Your Crystal Ball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URRICULUM CENTRAL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FRIDAY WORKSHOPS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NOV. 18 AND DEC. 2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1:00 – 4:30 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MAMANE 101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COME WHENEVER YOU WANT, STAY AS LONG AS YOU WANT (UP UNTIL 4:30!!!)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MAHALO!!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is it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  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designed to be the official archive and repository for curricular actions and information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is it designed to do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Provide transparency to the 10 campus courses and program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Allow you to see any course @ any campus @ any time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 can it do right now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a source for: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he catalog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Course content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Transcript evaluatio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Official course information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o is using it right now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urriculum Central is in use or in development at 6 out of 10 UH campuse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 </a:t>
            </a: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At KapCC, Curriculum Central is in use for course review, revision, and curriculum approval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What’s in it for You?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rystal ball information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Guide students more accurately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Be more akamai about upcoming curricular activities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Microsoft Sans Serif"/>
              </a:rPr>
              <a:t>Serve as a student advocate in the review process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Your Role in Review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Get involved at the ground level of course outline. 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now what’s coming for the students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Know what changes are going to be made and when.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458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Microsoft Sans Serif"/>
              </a:rPr>
              <a:t>Review Process</a:t>
            </a:r>
            <a:endParaRPr b="0" lang="en-US" sz="40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99" name="Diagram 4" descr=""/>
          <p:cNvPicPr/>
          <p:nvPr/>
        </p:nvPicPr>
        <p:blipFill>
          <a:blip r:embed="rId2"/>
          <a:stretch/>
        </p:blipFill>
        <p:spPr>
          <a:xfrm>
            <a:off x="146160" y="1596960"/>
            <a:ext cx="833256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Approval Process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pic>
        <p:nvPicPr>
          <p:cNvPr id="101" name="Content Placeholder 3" descr=""/>
          <p:cNvPicPr/>
          <p:nvPr/>
        </p:nvPicPr>
        <p:blipFill>
          <a:blip r:embed="rId2"/>
          <a:stretch/>
        </p:blipFill>
        <p:spPr>
          <a:xfrm>
            <a:off x="603360" y="2054160"/>
            <a:ext cx="7327800" cy="4273560"/>
          </a:xfrm>
          <a:prstGeom prst="rect">
            <a:avLst/>
          </a:prstGeom>
          <a:ln w="0">
            <a:noFill/>
          </a:ln>
        </p:spPr>
      </p:pic>
      <p:sp>
        <p:nvSpPr>
          <p:cNvPr id="102" name="Flowchart: Alternate Process 4"/>
          <p:cNvSpPr/>
          <p:nvPr/>
        </p:nvSpPr>
        <p:spPr>
          <a:xfrm>
            <a:off x="1219320" y="4038480"/>
            <a:ext cx="380880" cy="381240"/>
          </a:xfrm>
          <a:prstGeom prst="flowChartAlternateProcess">
            <a:avLst/>
          </a:prstGeom>
          <a:gradFill rotWithShape="0">
            <a:gsLst>
              <a:gs pos="0">
                <a:srgbClr val="d6cac2"/>
              </a:gs>
              <a:gs pos="100000">
                <a:srgbClr val="64371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030a0"/>
                </a:solidFill>
                <a:latin typeface="Arial"/>
              </a:rPr>
              <a:t>MKC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Down Arrow 5"/>
          <p:cNvSpPr/>
          <p:nvPr/>
        </p:nvSpPr>
        <p:spPr>
          <a:xfrm>
            <a:off x="1295280" y="3048120"/>
            <a:ext cx="152640" cy="914400"/>
          </a:xfrm>
          <a:prstGeom prst="downArrow">
            <a:avLst>
              <a:gd name="adj1" fmla="val 50000"/>
              <a:gd name="adj2" fmla="val 49921"/>
            </a:avLst>
          </a:prstGeom>
          <a:gradFill rotWithShape="0">
            <a:gsLst>
              <a:gs pos="0">
                <a:srgbClr val="d6cac2"/>
              </a:gs>
              <a:gs pos="100000">
                <a:srgbClr val="64371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720" y="2133360"/>
            <a:ext cx="7315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00:40:47Z</dcterms:created>
  <dc:creator>Dik</dc:creator>
  <dc:description/>
  <dc:language>en-US</dc:language>
  <cp:lastModifiedBy>SPope</cp:lastModifiedBy>
  <dcterms:modified xsi:type="dcterms:W3CDTF">2012-03-03T16:50:36Z</dcterms:modified>
  <cp:revision>17</cp:revision>
  <dc:subject/>
  <dc:title>Name of presentation</dc:title>
</cp:coreProperties>
</file>